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24.png" ContentType="image/png"/>
  <Override PartName="/ppt/media/image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31DC-23D6-4929-B24E-778D18CAD257}" type="datetime">
              <a:rPr b="0" lang="en-US" sz="1200" spc="-1" strike="noStrike">
                <a:solidFill>
                  <a:srgbClr val="000000"/>
                </a:solidFill>
                <a:latin typeface="Calibri"/>
              </a:rPr>
              <a:t>07/29/26</a:t>
            </a:fld>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5684-A3B5-4FEF-BEE8-D08B2B88C6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3B07-F1FD-4B6A-9C20-C92626E87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learning objectives are written to clearly define the expected learning outcome of the day’s less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make sure that we are referring to these objectiv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make these learning objectives an integrated component of our daily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re anything else that we should add to this are/are not list based on your expertise?</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991F-167E-429E-BC81-3C5028748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additional purposes of objectiv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lleagues and students what we valu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learners in self-assess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basis for analyzing the level of cognitive thinking we are expecting from the learn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model so that the students can write their own objectives and develop a life-long learning skil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focus and organizational tool for teacher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CF6C-A385-41B5-A88D-E89774B21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Bloom’s taxonomy has been around since the mid to late 50’s.  His taxonomy of cognitive behaviors provides a nice continuum of thinking about levels of lear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move our students towards the Higher Order thinking skill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3291-AAAF-4CD0-A68C-B89B0F6B1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GREEN PART – our ver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ist of words (EXAMPLE: whip-around strategy, choral rea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n all-inclusive list – there are many additional verbs that could be ad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Share – Where did your lesson today fall on Bloom’s taxonom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3B79-5BA0-4101-BCB5-F1EC1C6B8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our blue part – our linguistic demand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when planning lessons and writing learning objectives to keep in mind the linguistic demand of the task we are asking our students to complete and to include a language objective for all.</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es to all of our learners. Kate Kinsella is famous for saying, “ALL students are AESL – Academic English as a Second Language.”  In addition, we need to know who our English Learners and SE students are and be aware of their specific needs in order to differentiat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ay to think about the language objective is in terms of the expressive language function required to complete the task.</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PUSD has been involved in both SALT, Secondary Academic Language Tools created by California Reading and Literature Project and Systematic ELD created by Susana Dutro.  Both focus on explicit instruction in writing language objectives.</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aff members who have participated in SALT and Systematic ELD share their expertise on this subjec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o the language function lis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812E-771E-49A5-BAD7-172967CD4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have time to practice th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ust like backwards mapp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identify the standard that we are working on and the explicit task that will demonstrate student understanding.  We begin with, “Students will” and then add a verb from Bloom’s Taxonomy.  Next, we include the specific part of the standard that we are working on, making sure to use student friendly language.  Lastly, we determine which language function will best support the task and add it after the word “b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 Example is 6</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Example is 5</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taff practice writing a clearly stated learning objective using Bloom’s Taxonomy, CA Standards, and Language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92A7-9EF5-4E26-AFD2-996C5FD53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to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dditional resources (Bloom’s Taxonomy, California State Standards, Language Functions) as needed.</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4496-D521-4ABC-A026-7FE670613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348F-7002-4F77-8A79-FC186B368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2543-0808-489E-A3FE-22443E513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990E-7921-46EA-8150-310DB07C2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E7BD-CA43-4AD3-A946-04B76E681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FDF6-DE6E-4E96-AAAD-3A924DB3B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LKING POINT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with teachers the importance of Writing Clearly Stated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teachers that this is one of the 5 Essential Pract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component of the District Walkthrough Data Collection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post today’s Collaboration Meeting OBJECTIVE as a model in a visible place that will remain throughout training (See Slide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share what process they are currently using to write their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bring a copy of what was written for today’s objective</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CBB2-B9D8-4B38-BB1B-08EBBDFF4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535D1-D700-487F-A845-584DC2140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71614-676C-4C52-B0BC-097F20F0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51D50-DD6F-40CB-807F-B065D727C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5DCBE-1A76-4B9E-90CF-CF639E3DE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FF035-57C0-4B0E-A156-D803668A7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186FD-BB3E-4F38-9F4E-2998D2510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7858E-51B2-457F-8646-8C05E9745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F501E-8560-4AB0-B01D-5A158DBAB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249AD-7C15-467C-BCA5-61C2281AB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D3D06-02B7-442C-B715-64FBFB1CE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0C80-994F-4615-9D4A-7671866B8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F5605-B13F-4B6F-A783-A7D7667AC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C3F1A-3C40-439E-BBCC-7F96147E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88680-4D3C-4DCB-921F-D712F7962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B7BCD-1612-44F5-A446-BA46DD9AE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3A739-2F33-4B67-97A8-19DADDE9C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9B93FB-A3F8-4ED8-B14A-961589972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BB2492-21A7-4F01-BDC6-75FF44F15A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AAB28-0848-480E-8C47-3570412215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80B36-4674-4776-B044-460D364C7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CFA01-F4FA-433E-A7E9-C790205B1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4C4BB-A9AB-414F-940C-E014424FF7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58908-8FDD-4748-8E68-A672766C2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AC746-026A-458F-89CD-D13F75E6D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FCEC9-94B4-42F6-8D89-97CBB65B4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5D1ED-6488-47F2-BDFF-85AEF8550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31A16-EB62-41B7-BCB7-13410635C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2A1F8-37FA-4FF0-92ED-5DE6579B0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B3B967-06A6-450B-BA3A-CE5C2050E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F3AB3E-090B-4B8F-93B2-ED04392148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E5EDDA-DC4D-4695-9D5A-8CD3B6A0D9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EB8C4-AE6A-41DA-8957-2EE82DDB4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4DAD1-9C12-4C14-927A-F91C6BEC2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34956-95E4-4826-8518-B1D0E0761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C5787-9D27-41E5-AFBF-A0C316108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CAB32-6DF2-4635-BCF6-F62BB4987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FF9F4-C18D-4314-8884-8610A82FE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6F837-29EB-4D2E-BFD3-B2A020BA0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D10DC-2144-4EDC-83D0-B67EE1BDA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08215-2CC6-420F-99DA-E1AD53109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0C4D0E-E44E-4494-87BD-D83048981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5FB281-99D4-4709-9015-2429DDB26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2EF04-1CA9-4FE7-9D2C-B93860DF81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4CB02C-6BF0-4609-BAC6-36B25FBA8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7E18-ED34-4B0C-931E-DC54D090B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FFB8B-85D8-454A-879E-E3A85BBB5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E170E-575C-4B57-9DA6-D13A9254C1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4A5F28-378E-4763-BA29-EBB0F2E92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60A9E-511D-4394-99BB-09E58D02C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2A2610-EF09-487D-9D83-2AEF586B4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2E635-9E6C-4BE6-9C99-62343FF4E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667E3-7626-4C19-97FD-422EFA0687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689840-329D-4657-8418-A8042D194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40F9DD-549D-455E-8865-074A5621F8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0576A-8313-4A88-931D-0AC6DC503B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41B81-AB5B-45BB-8365-4A9FCD91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D4D11C-10EE-467A-B0CA-9B10BCBB87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38A9-6FB6-48C9-B789-B0598501B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D42B-21A5-4943-A96B-1431EAB95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82A3-EB55-4C59-8213-BD3A6DCAC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941C-7CF0-4596-AFBE-522354868F31}"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04EE-4437-4366-93DC-5313DC4C5CF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302B-5BAD-4F2E-83AB-2A6A306D7FDF}" type="datetime">
              <a:rPr b="0" lang="en-US" sz="1000" spc="-1" strike="noStrike">
                <a:solidFill>
                  <a:srgbClr val="ffffff"/>
                </a:solidFill>
                <a:latin typeface="Trebuchet MS"/>
              </a:rPr>
              <a:t>07/29/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C3EE-CF4A-4257-9924-CF96A117460F}"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4A19-0812-4057-A136-C685BC81E3DD}"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2419-F594-4F0C-948C-38A56C65B9FC}"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3535-8FD7-4D50-B927-60BFD8DB651D}" type="datetime">
              <a:rPr b="0" lang="en-US" sz="1000" spc="-1" strike="noStrike">
                <a:solidFill>
                  <a:srgbClr val="f4e7ed"/>
                </a:solidFill>
                <a:latin typeface="Trebuchet MS"/>
              </a:rPr>
              <a:t>07/29/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DD40-1094-4C7F-8083-FCC120FA36F9}"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55C4-706C-413E-8933-50212EE79C47}" type="datetime">
              <a:rPr b="0" lang="en-US" sz="1000" spc="-1" strike="noStrike">
                <a:solidFill>
                  <a:srgbClr val="b13f9a"/>
                </a:solidFill>
                <a:latin typeface="Trebuchet MS"/>
              </a:rPr>
              <a:t>07/29/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C7E0-AD70-46FF-8517-C1402BF47AB0}"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Title 1" descr=""/>
          <p:cNvPicPr/>
          <p:nvPr/>
        </p:nvPicPr>
        <p:blipFill>
          <a:blip r:embed="rId2"/>
          <a:stretch/>
        </p:blipFill>
        <p:spPr>
          <a:xfrm>
            <a:off x="3359160" y="530280"/>
            <a:ext cx="5119560" cy="28828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llaboration  </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ctober 21, 2009</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450720" y="225360"/>
            <a:ext cx="7248600" cy="1158840"/>
          </a:xfrm>
          <a:prstGeom prst="rect">
            <a:avLst/>
          </a:prstGeom>
          <a:ln w="0">
            <a:noFill/>
          </a:ln>
        </p:spPr>
      </p:pic>
      <p:sp>
        <p:nvSpPr>
          <p:cNvPr id="244" name=""/>
          <p:cNvSpPr txBox="1"/>
          <p:nvPr/>
        </p:nvSpPr>
        <p:spPr>
          <a:xfrm>
            <a:off x="457200" y="1676520"/>
            <a:ext cx="7238880" cy="462744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Definition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statement in specific and measurable/observable terms that describes what the learner will know or be able to do as a result of engaging in a learning activity.</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xample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  </a:t>
            </a:r>
            <a:r>
              <a:rPr b="0" i="1" lang="en-US" sz="2400" spc="-1" strike="noStrike">
                <a:solidFill>
                  <a:srgbClr val="000000"/>
                </a:solidFill>
                <a:latin typeface="Trebuchet MS"/>
              </a:rPr>
              <a:t>“</a:t>
            </a:r>
            <a:r>
              <a:rPr b="0" i="1" lang="en-US" sz="2400" spc="-1" strike="noStrike">
                <a:solidFill>
                  <a:srgbClr val="000000"/>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000000"/>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450720" y="378000"/>
            <a:ext cx="7248600" cy="549000"/>
          </a:xfrm>
          <a:prstGeom prst="rect">
            <a:avLst/>
          </a:prstGeom>
          <a:ln w="0">
            <a:noFill/>
          </a:ln>
        </p:spPr>
      </p:pic>
      <p:sp>
        <p:nvSpPr>
          <p:cNvPr id="246" name=""/>
          <p:cNvSpPr txBox="1"/>
          <p:nvPr/>
        </p:nvSpPr>
        <p:spPr>
          <a:xfrm>
            <a:off x="457200" y="990360"/>
            <a:ext cx="7238880" cy="327636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d on grade-level/content standards</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t on prior learning</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early measurable</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istic and doable</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ted in student friendly terms</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derstood by students</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ferred to by teacher throughout the lesson</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lusive of ALL students</a:t>
            </a:r>
            <a:endParaRPr b="0" lang="en-US" sz="2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7" name="Title 1" descr=""/>
          <p:cNvPicPr/>
          <p:nvPr/>
        </p:nvPicPr>
        <p:blipFill>
          <a:blip r:embed="rId2"/>
          <a:stretch/>
        </p:blipFill>
        <p:spPr>
          <a:xfrm>
            <a:off x="378000" y="4260960"/>
            <a:ext cx="8235720" cy="549000"/>
          </a:xfrm>
          <a:prstGeom prst="rect">
            <a:avLst/>
          </a:prstGeom>
          <a:ln w="0">
            <a:noFill/>
          </a:ln>
        </p:spPr>
      </p:pic>
      <p:sp>
        <p:nvSpPr>
          <p:cNvPr id="248" name="Rectangle 7"/>
          <p:cNvSpPr/>
          <p:nvPr/>
        </p:nvSpPr>
        <p:spPr>
          <a:xfrm>
            <a:off x="457200" y="4805280"/>
            <a:ext cx="7543800" cy="3020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California State Standard verbati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ritten in a way that students cannot understand</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dden or hard to find in the classroo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gnored by the teacher and students</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450720" y="450720"/>
            <a:ext cx="7248600" cy="1158840"/>
          </a:xfrm>
          <a:prstGeom prst="rect">
            <a:avLst/>
          </a:prstGeom>
          <a:ln w="0">
            <a:noFill/>
          </a:ln>
        </p:spPr>
      </p:pic>
      <p:sp>
        <p:nvSpPr>
          <p:cNvPr id="250" name=""/>
          <p:cNvSpPr txBox="1"/>
          <p:nvPr/>
        </p:nvSpPr>
        <p:spPr>
          <a:xfrm>
            <a:off x="456840" y="1874520"/>
            <a:ext cx="7620120" cy="4373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teacher in the </a:t>
            </a:r>
            <a:r>
              <a:rPr b="1" i="1" lang="en-US" sz="2600" spc="-1" strike="noStrike">
                <a:solidFill>
                  <a:srgbClr val="000000"/>
                </a:solidFill>
                <a:latin typeface="Trebuchet MS"/>
              </a:rPr>
              <a:t>planning</a:t>
            </a:r>
            <a:r>
              <a:rPr b="0" lang="en-US" sz="2600" spc="-1" strike="noStrike">
                <a:solidFill>
                  <a:srgbClr val="000000"/>
                </a:solidFill>
                <a:latin typeface="Trebuchet MS"/>
              </a:rPr>
              <a:t> of instruction, </a:t>
            </a:r>
            <a:r>
              <a:rPr b="1" i="1" lang="en-US" sz="2600" spc="-1" strike="noStrike">
                <a:solidFill>
                  <a:srgbClr val="000000"/>
                </a:solidFill>
                <a:latin typeface="Trebuchet MS"/>
              </a:rPr>
              <a:t>delivery</a:t>
            </a:r>
            <a:r>
              <a:rPr b="0" lang="en-US" sz="2600" spc="-1" strike="noStrike">
                <a:solidFill>
                  <a:srgbClr val="000000"/>
                </a:solidFill>
                <a:latin typeface="Trebuchet MS"/>
              </a:rPr>
              <a:t> of instruction and </a:t>
            </a:r>
            <a:r>
              <a:rPr b="1" i="1" lang="en-US" sz="2600" spc="-1" strike="noStrike">
                <a:solidFill>
                  <a:srgbClr val="000000"/>
                </a:solidFill>
                <a:latin typeface="Trebuchet MS"/>
              </a:rPr>
              <a:t>assessment</a:t>
            </a:r>
            <a:r>
              <a:rPr b="0" lang="en-US" sz="2600" spc="-1" strike="noStrike">
                <a:solidFill>
                  <a:srgbClr val="000000"/>
                </a:solidFill>
                <a:latin typeface="Trebuchet MS"/>
              </a:rPr>
              <a:t> of student achiev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student; helps him/her focus and set priori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llows for analysis in terms of teaching and learning leve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25360" y="317520"/>
            <a:ext cx="7626240" cy="1170000"/>
          </a:xfrm>
          <a:prstGeom prst="rect">
            <a:avLst/>
          </a:prstGeom>
          <a:ln w="0">
            <a:noFill/>
          </a:ln>
        </p:spPr>
      </p:pic>
      <p:pic>
        <p:nvPicPr>
          <p:cNvPr id="252" name="Picture 3" descr="bloomsrevisedtaxomony.jpg"/>
          <p:cNvPicPr/>
          <p:nvPr/>
        </p:nvPicPr>
        <p:blipFill>
          <a:blip r:embed="rId2"/>
          <a:stretch/>
        </p:blipFill>
        <p:spPr>
          <a:xfrm>
            <a:off x="1905120" y="1479600"/>
            <a:ext cx="4267080" cy="511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0720" y="317520"/>
            <a:ext cx="7248600" cy="762120"/>
          </a:xfrm>
          <a:prstGeom prst="rect">
            <a:avLst/>
          </a:prstGeom>
          <a:ln w="0">
            <a:noFill/>
          </a:ln>
        </p:spPr>
      </p:pic>
      <p:graphicFrame>
        <p:nvGraphicFramePr>
          <p:cNvPr id="254" name=""/>
          <p:cNvGraphicFramePr/>
          <p:nvPr/>
        </p:nvGraphicFramePr>
        <p:xfrm>
          <a:off x="152280" y="1297080"/>
          <a:ext cx="8839440" cy="4262400"/>
        </p:xfrm>
        <a:graphic>
          <a:graphicData uri="http://schemas.openxmlformats.org/drawingml/2006/table">
            <a:tbl>
              <a:tblPr/>
              <a:tblGrid>
                <a:gridCol w="1560600"/>
                <a:gridCol w="1639800"/>
                <a:gridCol w="1219320"/>
                <a:gridCol w="1447920"/>
                <a:gridCol w="1560240"/>
                <a:gridCol w="1411560"/>
              </a:tblGrid>
              <a:tr h="45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member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derstand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pply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z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valuat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at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3805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gn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cri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dentif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trie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r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mar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f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aphr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assif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emplif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rry 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ec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di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rgan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nstru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rib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ut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nk</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ypothe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it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peri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u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abor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i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tru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du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ublis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0720" y="317520"/>
            <a:ext cx="7255080" cy="1170000"/>
          </a:xfrm>
          <a:prstGeom prst="rect">
            <a:avLst/>
          </a:prstGeom>
          <a:ln w="0">
            <a:noFill/>
          </a:ln>
        </p:spPr>
      </p:pic>
      <p:graphicFrame>
        <p:nvGraphicFramePr>
          <p:cNvPr id="256" name=""/>
          <p:cNvGraphicFramePr/>
          <p:nvPr/>
        </p:nvGraphicFramePr>
        <p:xfrm>
          <a:off x="152280" y="1523880"/>
          <a:ext cx="8763120" cy="5126040"/>
        </p:xfrm>
        <a:graphic>
          <a:graphicData uri="http://schemas.openxmlformats.org/drawingml/2006/table">
            <a:tbl>
              <a:tblPr/>
              <a:tblGrid>
                <a:gridCol w="2190960"/>
                <a:gridCol w="2190600"/>
                <a:gridCol w="2190960"/>
                <a:gridCol w="2190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Interpersonal Commun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scribe, Classify, Compare and Contr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Actions and Time Relationsh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Cause and Effect, Predict, Inf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9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scribing attributes, locations, 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frequency and d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ing predictions and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97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questing assistance and clar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aring and contra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iving and following multi-step di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cause and eff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27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tribut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ssifying and making generalizations based on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izing a sequence of ev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70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scussing ideas and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labo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posing and suppor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
        <p:nvSpPr>
          <p:cNvPr id="257" name="TextBox 3"/>
          <p:cNvSpPr/>
          <p:nvPr/>
        </p:nvSpPr>
        <p:spPr>
          <a:xfrm>
            <a:off x="228600" y="6629400"/>
            <a:ext cx="5029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Susana Dutro and CRLP</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0720" y="317520"/>
            <a:ext cx="7248600" cy="1163520"/>
          </a:xfrm>
          <a:prstGeom prst="rect">
            <a:avLst/>
          </a:prstGeom>
          <a:ln w="0">
            <a:noFill/>
          </a:ln>
        </p:spPr>
      </p:pic>
      <p:sp>
        <p:nvSpPr>
          <p:cNvPr id="259" name=""/>
          <p:cNvSpPr txBox="1"/>
          <p:nvPr/>
        </p:nvSpPr>
        <p:spPr>
          <a:xfrm>
            <a:off x="228600" y="1609200"/>
            <a:ext cx="76960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SENTENCE FRAME:  Students will </a:t>
            </a:r>
            <a:r>
              <a:rPr b="1" lang="en-US" sz="2400" spc="-1" strike="noStrike" u="sng">
                <a:solidFill>
                  <a:srgbClr val="00b050"/>
                </a:solidFill>
                <a:uFillTx/>
                <a:latin typeface="Trebuchet MS"/>
              </a:rPr>
              <a:t>Bloom’s Taxonomy verb </a:t>
            </a:r>
            <a:r>
              <a:rPr b="1" lang="en-US" sz="2400" spc="-1" strike="noStrike">
                <a:solidFill>
                  <a:srgbClr val="000000"/>
                </a:solidFill>
                <a:latin typeface="Trebuchet MS"/>
              </a:rPr>
              <a:t>+ </a:t>
            </a:r>
            <a:r>
              <a:rPr b="1" lang="en-US" sz="2400" spc="-1" strike="noStrike" u="sng">
                <a:solidFill>
                  <a:srgbClr val="ff0000"/>
                </a:solidFill>
                <a:uFillTx/>
                <a:latin typeface="Trebuchet MS"/>
              </a:rPr>
              <a:t>Goal from CA State Standard</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70c0"/>
                </a:solidFill>
                <a:uFillTx/>
                <a:latin typeface="Trebuchet MS"/>
              </a:rPr>
              <a:t>Language Function</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ELA EXAMPLE:  Students will </a:t>
            </a:r>
            <a:r>
              <a:rPr b="1" lang="en-US" sz="2400" spc="-1" strike="noStrike" u="sng">
                <a:solidFill>
                  <a:srgbClr val="00b050"/>
                </a:solidFill>
                <a:uFillTx/>
                <a:latin typeface="Trebuchet MS"/>
              </a:rPr>
              <a:t>analyze</a:t>
            </a:r>
            <a:r>
              <a:rPr b="1" lang="en-US" sz="2400" spc="-1" strike="noStrike">
                <a:solidFill>
                  <a:srgbClr val="000000"/>
                </a:solidFill>
                <a:latin typeface="Trebuchet MS"/>
              </a:rPr>
              <a:t> the </a:t>
            </a:r>
            <a:r>
              <a:rPr b="1" lang="en-US" sz="2400" spc="-1" strike="noStrike" u="sng">
                <a:solidFill>
                  <a:srgbClr val="ff0000"/>
                </a:solidFill>
                <a:uFillTx/>
                <a:latin typeface="Trebuchet MS"/>
              </a:rPr>
              <a:t>effect of a character on the plot and resolution of the conflict</a:t>
            </a:r>
            <a:r>
              <a:rPr b="1" lang="en-US" sz="2400" spc="-1" strike="noStrike">
                <a:solidFill>
                  <a:srgbClr val="000000"/>
                </a:solidFill>
                <a:latin typeface="Trebuchet MS"/>
              </a:rPr>
              <a:t> by </a:t>
            </a:r>
            <a:r>
              <a:rPr b="1" lang="en-US" sz="2400" spc="-1" strike="noStrike" u="sng">
                <a:solidFill>
                  <a:srgbClr val="0070c0"/>
                </a:solidFill>
                <a:uFillTx/>
                <a:latin typeface="Trebuchet MS"/>
              </a:rPr>
              <a:t>making and explaining inferences and citing evidence</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MATH EXAMPLE:  </a:t>
            </a:r>
            <a:r>
              <a:rPr b="1" lang="en-US" sz="2400" spc="-1" strike="noStrike">
                <a:solidFill>
                  <a:srgbClr val="000000"/>
                </a:solidFill>
                <a:latin typeface="Trebuchet MS"/>
              </a:rPr>
              <a:t>Students will </a:t>
            </a:r>
            <a:r>
              <a:rPr b="1" lang="en-US" sz="2400" spc="-1" strike="noStrike" u="sng">
                <a:solidFill>
                  <a:srgbClr val="00b050"/>
                </a:solidFill>
                <a:uFillTx/>
                <a:latin typeface="Trebuchet MS"/>
              </a:rPr>
              <a:t>identify and graph </a:t>
            </a:r>
            <a:r>
              <a:rPr b="1" lang="en-US" sz="2400" spc="-1" strike="noStrike" u="sng">
                <a:solidFill>
                  <a:srgbClr val="ff0000"/>
                </a:solidFill>
                <a:uFillTx/>
                <a:latin typeface="Trebuchet MS"/>
              </a:rPr>
              <a:t>ordered pairs in the four quadrants of the coordinate plane </a:t>
            </a:r>
            <a:r>
              <a:rPr b="1" lang="en-US" sz="2400" spc="-1" strike="noStrike">
                <a:solidFill>
                  <a:srgbClr val="000000"/>
                </a:solidFill>
                <a:latin typeface="Trebuchet MS"/>
              </a:rPr>
              <a:t>by </a:t>
            </a:r>
            <a:r>
              <a:rPr b="1" lang="en-US" sz="2400" spc="-1" strike="noStrike" u="sng">
                <a:solidFill>
                  <a:srgbClr val="0070c0"/>
                </a:solidFill>
                <a:uFillTx/>
                <a:latin typeface="Trebuchet MS"/>
              </a:rPr>
              <a:t>following multi-step directions</a:t>
            </a:r>
            <a:r>
              <a:rPr b="1" lang="en-US" sz="2400" spc="-1" strike="noStrike">
                <a:solidFill>
                  <a:srgbClr val="00000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1292400" y="-158760"/>
            <a:ext cx="7248240" cy="1158840"/>
          </a:xfrm>
          <a:prstGeom prst="rect">
            <a:avLst/>
          </a:prstGeom>
          <a:ln w="0">
            <a:noFill/>
          </a:ln>
        </p:spPr>
      </p:pic>
      <p:pic>
        <p:nvPicPr>
          <p:cNvPr id="261" name="Picture 2" descr=""/>
          <p:cNvPicPr/>
          <p:nvPr/>
        </p:nvPicPr>
        <p:blipFill>
          <a:blip r:embed="rId2"/>
          <a:srcRect l="40001" t="20003" r="25627" b="9000"/>
          <a:stretch/>
        </p:blipFill>
        <p:spPr>
          <a:xfrm>
            <a:off x="2057400" y="1143000"/>
            <a:ext cx="4191120" cy="5410080"/>
          </a:xfrm>
          <a:prstGeom prst="rect">
            <a:avLst/>
          </a:prstGeom>
          <a:ln w="57240">
            <a:solidFill>
              <a:srgbClr val="8a2e4e"/>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0720" y="225360"/>
            <a:ext cx="7248600" cy="682560"/>
          </a:xfrm>
          <a:prstGeom prst="rect">
            <a:avLst/>
          </a:prstGeom>
          <a:ln w="0">
            <a:noFill/>
          </a:ln>
        </p:spPr>
      </p:pic>
      <p:pic>
        <p:nvPicPr>
          <p:cNvPr id="263" name="Content Placeholder 3" descr=""/>
          <p:cNvPicPr/>
          <p:nvPr/>
        </p:nvPicPr>
        <p:blipFill>
          <a:blip r:embed="rId2"/>
          <a:stretch/>
        </p:blipFill>
        <p:spPr>
          <a:xfrm>
            <a:off x="146160" y="890640"/>
            <a:ext cx="755316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Title 1" descr=""/>
          <p:cNvPicPr/>
          <p:nvPr/>
        </p:nvPicPr>
        <p:blipFill>
          <a:blip r:embed="rId2"/>
          <a:stretch/>
        </p:blipFill>
        <p:spPr>
          <a:xfrm>
            <a:off x="3359160" y="530280"/>
            <a:ext cx="5119560" cy="482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Content Placeholder 3" descr=""/>
          <p:cNvPicPr/>
          <p:nvPr/>
        </p:nvPicPr>
        <p:blipFill>
          <a:blip r:embed="rId1"/>
          <a:stretch/>
        </p:blipFill>
        <p:spPr>
          <a:xfrm>
            <a:off x="298440" y="-6480"/>
            <a:ext cx="7400880" cy="6467760"/>
          </a:xfrm>
          <a:prstGeom prst="rect">
            <a:avLst/>
          </a:prstGeom>
          <a:ln w="0">
            <a:noFill/>
          </a:ln>
        </p:spPr>
      </p:pic>
      <p:sp>
        <p:nvSpPr>
          <p:cNvPr id="231" name="TextBox 4"/>
          <p:cNvSpPr/>
          <p:nvPr/>
        </p:nvSpPr>
        <p:spPr>
          <a:xfrm>
            <a:off x="2895480" y="2133720"/>
            <a:ext cx="22100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LC Cycle </a:t>
            </a:r>
            <a:r>
              <a:rPr b="0" lang="en-US" sz="3200" spc="-1" strike="noStrike">
                <a:solidFill>
                  <a:srgbClr val="000000"/>
                </a:solidFill>
                <a:latin typeface="Arial"/>
              </a:rPr>
              <a:t>&am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District Initi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Content Placeholder 3" descr=""/>
          <p:cNvPicPr/>
          <p:nvPr/>
        </p:nvPicPr>
        <p:blipFill>
          <a:blip r:embed="rId1"/>
          <a:stretch/>
        </p:blipFill>
        <p:spPr>
          <a:xfrm>
            <a:off x="298440" y="-6480"/>
            <a:ext cx="7400880" cy="6467760"/>
          </a:xfrm>
          <a:prstGeom prst="rect">
            <a:avLst/>
          </a:prstGeom>
          <a:ln w="0">
            <a:noFill/>
          </a:ln>
        </p:spPr>
      </p:pic>
      <p:sp>
        <p:nvSpPr>
          <p:cNvPr id="233" name="TextBox 4"/>
          <p:cNvSpPr/>
          <p:nvPr/>
        </p:nvSpPr>
        <p:spPr>
          <a:xfrm>
            <a:off x="1828800" y="1401840"/>
            <a:ext cx="4419720" cy="298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C Cycle &am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Questions</a:t>
            </a:r>
            <a:endParaRPr b="0" lang="en-US" sz="3200" spc="-1" strike="noStrike">
              <a:solidFill>
                <a:srgbClr val="000000"/>
              </a:solidFill>
              <a:latin typeface="Arial"/>
            </a:endParaRPr>
          </a:p>
          <a:p>
            <a:pPr algn="ctr">
              <a:buClr>
                <a:srgbClr val="b13f9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Arial"/>
              </a:rPr>
              <a:t>What are the essential outcomes that we expect students to lear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What assessment will we use to determine if the students have learn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ow will we intervene when students do not learn or learn more than anticipated?   </a:t>
            </a:r>
            <a:endParaRPr b="0" lang="en-US" sz="1400" spc="-1" strike="noStrike">
              <a:solidFill>
                <a:srgbClr val="000000"/>
              </a:solidFill>
              <a:latin typeface="Arial"/>
            </a:endParaRPr>
          </a:p>
          <a:p>
            <a:pPr algn="ct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Title 3" descr=""/>
          <p:cNvPicPr/>
          <p:nvPr/>
        </p:nvPicPr>
        <p:blipFill>
          <a:blip r:embed="rId1"/>
          <a:stretch/>
        </p:blipFill>
        <p:spPr>
          <a:xfrm>
            <a:off x="450720" y="317520"/>
            <a:ext cx="7248600" cy="1157400"/>
          </a:xfrm>
          <a:prstGeom prst="rect">
            <a:avLst/>
          </a:prstGeom>
          <a:ln w="0">
            <a:noFill/>
          </a:ln>
        </p:spPr>
      </p:pic>
      <p:sp>
        <p:nvSpPr>
          <p:cNvPr id="235" name="PlaceHolder 1"/>
          <p:cNvSpPr>
            <a:spLocks noGrp="1"/>
          </p:cNvSpPr>
          <p:nvPr>
            <p:ph/>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statement that provides a concrete measurable starting point for improvement.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Traditional measure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ST </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chmark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on Final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xample:</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1% of EL students are proficient or above on the Algebra 1 CST. </a:t>
            </a:r>
            <a:endParaRPr b="0" lang="en-US" sz="23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225360"/>
            <a:ext cx="7248600" cy="1158840"/>
          </a:xfrm>
          <a:prstGeom prst="rect">
            <a:avLst/>
          </a:prstGeom>
          <a:ln w="0">
            <a:noFill/>
          </a:ln>
        </p:spPr>
      </p:pic>
      <p:sp>
        <p:nvSpPr>
          <p:cNvPr id="237" name=""/>
          <p:cNvSpPr txBox="1"/>
          <p:nvPr/>
        </p:nvSpPr>
        <p:spPr>
          <a:xfrm>
            <a:off x="457200" y="1676520"/>
            <a:ext cx="7238880" cy="4627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Definition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The result or achievement toward which effort is directed; aim; end.</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Content Placeholder 3" descr=""/>
          <p:cNvPicPr/>
          <p:nvPr/>
        </p:nvPicPr>
        <p:blipFill>
          <a:blip r:embed="rId1"/>
          <a:stretch/>
        </p:blipFill>
        <p:spPr>
          <a:xfrm>
            <a:off x="407880" y="285840"/>
            <a:ext cx="7297920" cy="624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0720" y="225360"/>
            <a:ext cx="7248600" cy="1158840"/>
          </a:xfrm>
          <a:prstGeom prst="rect">
            <a:avLst/>
          </a:prstGeom>
          <a:ln w="0">
            <a:noFill/>
          </a:ln>
        </p:spPr>
      </p:pic>
      <p:sp>
        <p:nvSpPr>
          <p:cNvPr id="240" name=""/>
          <p:cNvSpPr txBox="1"/>
          <p:nvPr/>
        </p:nvSpPr>
        <p:spPr>
          <a:xfrm>
            <a:off x="457200" y="1676520"/>
            <a:ext cx="7238880" cy="4627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ood Example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  “</a:t>
            </a:r>
            <a:r>
              <a:rPr b="0" i="1" lang="en-US" sz="2400" spc="-1" strike="noStrike">
                <a:solidFill>
                  <a:srgbClr val="000000"/>
                </a:solidFill>
                <a:latin typeface="Trebuchet MS"/>
              </a:rPr>
              <a:t>75% of all teachers will escape this Halloween with their brains intact</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Bad Example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  “</a:t>
            </a:r>
            <a:r>
              <a:rPr b="0" i="1" lang="en-US" sz="2400" spc="-1" strike="noStrike">
                <a:solidFill>
                  <a:srgbClr val="000000"/>
                </a:solidFill>
                <a:latin typeface="Trebuchet MS"/>
              </a:rPr>
              <a:t>Teachers will escape with their brains intact</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Title 1" descr=""/>
          <p:cNvPicPr/>
          <p:nvPr/>
        </p:nvPicPr>
        <p:blipFill>
          <a:blip r:embed="rId2"/>
          <a:stretch/>
        </p:blipFill>
        <p:spPr>
          <a:xfrm>
            <a:off x="3359160" y="-231840"/>
            <a:ext cx="5119560" cy="2889360"/>
          </a:xfrm>
          <a:prstGeom prst="rect">
            <a:avLst/>
          </a:prstGeom>
          <a:ln w="0">
            <a:noFill/>
          </a:ln>
        </p:spPr>
      </p:pic>
      <p:sp>
        <p:nvSpPr>
          <p:cNvPr id="242" name="PlaceHolder 1"/>
          <p:cNvSpPr>
            <a:spLocks noGrp="1"/>
          </p:cNvSpPr>
          <p:nvPr>
            <p:ph type="subTitle"/>
          </p:nvPr>
        </p:nvSpPr>
        <p:spPr>
          <a:xfrm>
            <a:off x="2895480" y="3123720"/>
            <a:ext cx="6096240" cy="3124440"/>
          </a:xfrm>
          <a:prstGeom prst="rect">
            <a:avLst/>
          </a:prstGeom>
          <a:solidFill>
            <a:srgbClr val="000000"/>
          </a:solidFill>
          <a:ln w="9360">
            <a:solidFill>
              <a:srgbClr val="000000"/>
            </a:solidFill>
            <a:miter/>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a:t>
            </a:r>
            <a:r>
              <a:rPr b="0" i="1" lang="en-US" sz="2400" spc="-1" strike="noStrike">
                <a:solidFill>
                  <a:srgbClr val="ffffff"/>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ffffff"/>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ffffff"/>
                </a:solidFill>
                <a:latin typeface="Trebuchet MS"/>
              </a:rPr>
              <a:t>by</a:t>
            </a:r>
            <a:r>
              <a:rPr b="1" lang="en-US" sz="2400" spc="-1" strike="noStrike">
                <a:solidFill>
                  <a:srgbClr val="ffffff"/>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5:01:13Z</dcterms:created>
  <dc:creator>Student</dc:creator>
  <dc:description/>
  <dc:language>en-US</dc:language>
  <cp:lastModifiedBy>W Crockett</cp:lastModifiedBy>
  <dcterms:modified xsi:type="dcterms:W3CDTF">2009-10-20T16:28:31Z</dcterms:modified>
  <cp:revision>47</cp:revision>
  <dc:subject/>
  <dc:title>Writing Clearly Stated Objectives</dc:title>
</cp:coreProperties>
</file>